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B34-BE08-4424-B44D-22B77152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810-0093-455B-9BBF-CE913B72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D8B-1AB1-4347-BE62-1AA1E907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6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384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6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7B4-BF7D-45E1-AE41-1F53F942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8251-109E-4D67-8896-8EEFC735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2233-CBD7-497F-851A-4EECD5BC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555D-53F6-40E2-9B5B-81673038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AB7E-D624-4D99-9B56-4EABDC94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3840" y="1317600"/>
            <a:ext cx="395035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5655-D5B9-40DF-8826-083180D4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12B2-9F02-403A-A201-CC4A6A39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61F-6C11-44D7-B628-35074850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8727-8370-427C-8AC1-33E459B9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6280" indent="-16462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38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29976840"/>
            <a:ext cx="139003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ctr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389480"/>
                <a:tab algn="l" pos="8778960"/>
              </a:tabLst>
            </a:pPr>
            <a:fld id="{4B4F0133-D99B-47F5-BFC2-6AF511909650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25080" y="1066680"/>
            <a:ext cx="38481120" cy="2514600"/>
          </a:xfrm>
          <a:prstGeom prst="roundRect">
            <a:avLst>
              <a:gd name="adj" fmla="val 50000"/>
            </a:avLst>
          </a:prstGeom>
          <a:solidFill>
            <a:srgbClr val="99ccff">
              <a:alpha val="50000"/>
            </a:srgbClr>
          </a:solidFill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0" bIns="46800" anchor="ctr">
            <a:noAutofit/>
          </a:bodyPr>
          <a:p>
            <a:pPr>
              <a:spcBef>
                <a:spcPts val="593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Process Defining Furniture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0"/>
            <a:ext cx="13716000" cy="32918400"/>
          </a:xfrm>
          <a:custGeom>
            <a:avLst/>
            <a:gdLst>
              <a:gd name="textAreaLeft" fmla="*/ 0 w 13716000"/>
              <a:gd name="textAreaRight" fmla="*/ 13716360 w 13716000"/>
              <a:gd name="textAreaTop" fmla="*/ 0 h 32918400"/>
              <a:gd name="textAreaBottom" fmla="*/ 32918760 h 3291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058" y="0"/>
                </a:lnTo>
                <a:lnTo>
                  <a:pt x="21600" y="10800"/>
                </a:lnTo>
                <a:lnTo>
                  <a:pt x="150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254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9601200"/>
            <a:ext cx="1310652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eaeaea"/>
                </a:solidFill>
                <a:latin typeface="Arial"/>
              </a:rPr>
              <a:t>Problem Statemen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List my problem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There’s mor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And mor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5925680"/>
            <a:ext cx="1310652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eaeaea"/>
                </a:solidFill>
                <a:latin typeface="Arial"/>
              </a:rPr>
              <a:t>Evidence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Do we have anyth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I feel we need more on the poste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I am so not creativ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22707720"/>
            <a:ext cx="1310616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eaeaea"/>
                </a:solidFill>
                <a:latin typeface="Arial"/>
              </a:rPr>
              <a:t>Design Specs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Lets go look at the good poste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They had good spec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That’s all I go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33520" y="457200"/>
            <a:ext cx="7695720" cy="5714640"/>
            <a:chOff x="533520" y="457200"/>
            <a:chExt cx="7695720" cy="5714640"/>
          </a:xfrm>
        </p:grpSpPr>
        <p:sp>
          <p:nvSpPr>
            <p:cNvPr id="47" name=""/>
            <p:cNvSpPr/>
            <p:nvPr/>
          </p:nvSpPr>
          <p:spPr>
            <a:xfrm flipV="1">
              <a:off x="2610720" y="3368520"/>
              <a:ext cx="765360" cy="25106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57080" y="702000"/>
              <a:ext cx="1746000" cy="208476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714920" y="3366000"/>
              <a:ext cx="149220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83840" y="3368520"/>
              <a:ext cx="1340280" cy="59796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240"/>
                  </a:moveTo>
                  <a:cubicBezTo>
                    <a:pt x="20" y="164"/>
                    <a:pt x="40" y="88"/>
                    <a:pt x="96" y="48"/>
                  </a:cubicBezTo>
                  <a:cubicBezTo>
                    <a:pt x="152" y="8"/>
                    <a:pt x="244" y="4"/>
                    <a:pt x="336" y="0"/>
                  </a:cubicBezTo>
                </a:path>
              </a:pathLst>
            </a:cu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03440" y="2779920"/>
              <a:ext cx="1367640" cy="351720"/>
            </a:xfrm>
            <a:custGeom>
              <a:avLst/>
              <a:gdLst/>
              <a:ahLst/>
              <a:rect l="l" t="t" r="r" b="b"/>
              <a:pathLst>
                <a:path w="343" h="141">
                  <a:moveTo>
                    <a:pt x="0" y="0"/>
                  </a:moveTo>
                  <a:cubicBezTo>
                    <a:pt x="9" y="15"/>
                    <a:pt x="30" y="63"/>
                    <a:pt x="55" y="85"/>
                  </a:cubicBezTo>
                  <a:cubicBezTo>
                    <a:pt x="80" y="107"/>
                    <a:pt x="103" y="125"/>
                    <a:pt x="151" y="133"/>
                  </a:cubicBezTo>
                  <a:cubicBezTo>
                    <a:pt x="199" y="141"/>
                    <a:pt x="311" y="133"/>
                    <a:pt x="343" y="133"/>
                  </a:cubicBezTo>
                </a:path>
              </a:pathLst>
            </a:cu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520" y="457200"/>
              <a:ext cx="1148400" cy="278280"/>
            </a:xfrm>
            <a:custGeom>
              <a:avLst/>
              <a:gdLst/>
              <a:ahLst/>
              <a:rect l="l" t="t" r="r" b="b"/>
              <a:pathLst>
                <a:path w="288" h="112">
                  <a:moveTo>
                    <a:pt x="288" y="112"/>
                  </a:moveTo>
                  <a:cubicBezTo>
                    <a:pt x="264" y="72"/>
                    <a:pt x="240" y="32"/>
                    <a:pt x="192" y="16"/>
                  </a:cubicBezTo>
                  <a:cubicBezTo>
                    <a:pt x="144" y="0"/>
                    <a:pt x="72" y="8"/>
                    <a:pt x="0" y="16"/>
                  </a:cubicBezTo>
                </a:path>
              </a:pathLst>
            </a:cu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321880" y="2849040"/>
              <a:ext cx="378000" cy="51696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819320" y="2842200"/>
              <a:ext cx="149040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37400" y="3366000"/>
              <a:ext cx="1422720" cy="24894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656400" y="4561560"/>
              <a:ext cx="765360" cy="2394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41160" y="3121200"/>
              <a:ext cx="865080" cy="1470240"/>
            </a:xfrm>
            <a:custGeom>
              <a:avLst/>
              <a:gdLst/>
              <a:ahLst/>
              <a:rect l="l" t="t" r="r" b="b"/>
              <a:pathLst>
                <a:path w="178" h="598">
                  <a:moveTo>
                    <a:pt x="0" y="0"/>
                  </a:moveTo>
                  <a:lnTo>
                    <a:pt x="178" y="598"/>
                  </a:lnTo>
                </a:path>
              </a:pathLst>
            </a:cu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37640" y="3041280"/>
              <a:ext cx="1191600" cy="555840"/>
            </a:xfrm>
            <a:custGeom>
              <a:avLst/>
              <a:gdLst/>
              <a:ahLst/>
              <a:rect l="l" t="t" r="r" b="b"/>
              <a:pathLst>
                <a:path w="299" h="223">
                  <a:moveTo>
                    <a:pt x="0" y="89"/>
                  </a:moveTo>
                  <a:cubicBezTo>
                    <a:pt x="7" y="76"/>
                    <a:pt x="15" y="22"/>
                    <a:pt x="37" y="11"/>
                  </a:cubicBezTo>
                  <a:cubicBezTo>
                    <a:pt x="59" y="0"/>
                    <a:pt x="96" y="8"/>
                    <a:pt x="129" y="24"/>
                  </a:cubicBezTo>
                  <a:cubicBezTo>
                    <a:pt x="162" y="40"/>
                    <a:pt x="205" y="72"/>
                    <a:pt x="233" y="105"/>
                  </a:cubicBezTo>
                  <a:cubicBezTo>
                    <a:pt x="261" y="138"/>
                    <a:pt x="285" y="198"/>
                    <a:pt x="299" y="223"/>
                  </a:cubicBezTo>
                </a:path>
              </a:pathLst>
            </a:cu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34560" y="3321000"/>
              <a:ext cx="414360" cy="222120"/>
            </a:xfrm>
            <a:custGeom>
              <a:avLst/>
              <a:gdLst/>
              <a:ahLst/>
              <a:rect l="l" t="t" r="r" b="b"/>
              <a:pathLst>
                <a:path w="104" h="89">
                  <a:moveTo>
                    <a:pt x="0" y="89"/>
                  </a:moveTo>
                  <a:cubicBezTo>
                    <a:pt x="1" y="78"/>
                    <a:pt x="5" y="37"/>
                    <a:pt x="15" y="22"/>
                  </a:cubicBezTo>
                  <a:cubicBezTo>
                    <a:pt x="25" y="7"/>
                    <a:pt x="44" y="0"/>
                    <a:pt x="59" y="0"/>
                  </a:cubicBezTo>
                  <a:cubicBezTo>
                    <a:pt x="74" y="0"/>
                    <a:pt x="95" y="17"/>
                    <a:pt x="104" y="22"/>
                  </a:cubicBezTo>
                </a:path>
              </a:pathLst>
            </a:cu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032560" y="2548440"/>
              <a:ext cx="1148040" cy="35881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54720" y="3537720"/>
              <a:ext cx="640800" cy="26341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5011280" y="3733920"/>
            <a:ext cx="34594920" cy="152388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12708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lang="en-US" sz="6000" spc="-1" strike="noStrike">
                <a:solidFill>
                  <a:srgbClr val="bddeff"/>
                </a:solidFill>
                <a:latin typeface="Arial"/>
              </a:rPr>
              <a:t>      </a:t>
            </a:r>
            <a:r>
              <a:rPr b="1" lang="en-US" sz="6600" spc="-1" strike="noStrike">
                <a:solidFill>
                  <a:srgbClr val="bddeff"/>
                </a:solidFill>
                <a:latin typeface="Arial"/>
              </a:rPr>
              <a:t>Advancing Triage for the futu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624852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Gulim"/>
                <a:ea typeface="Arial"/>
              </a:rPr>
              <a:t>The Triage Cha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7" descr="HR1130_Advance2000"/>
          <p:cNvPicPr/>
          <p:nvPr/>
        </p:nvPicPr>
        <p:blipFill>
          <a:blip r:embed="rId1"/>
          <a:stretch/>
        </p:blipFill>
        <p:spPr>
          <a:xfrm>
            <a:off x="14249520" y="27252720"/>
            <a:ext cx="5676840" cy="4060800"/>
          </a:xfrm>
          <a:prstGeom prst="rect">
            <a:avLst/>
          </a:prstGeom>
          <a:ln w="0">
            <a:noFill/>
          </a:ln>
        </p:spPr>
      </p:pic>
      <p:sp>
        <p:nvSpPr>
          <p:cNvPr id="65" name="Line 29"/>
          <p:cNvSpPr/>
          <p:nvPr/>
        </p:nvSpPr>
        <p:spPr>
          <a:xfrm>
            <a:off x="20869200" y="29641680"/>
            <a:ext cx="304812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19650240" y="28632240"/>
            <a:ext cx="514332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  <a:ea typeface="Arial"/>
              </a:rPr>
              <a:t>Recli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670880" y="22783680"/>
            <a:ext cx="906804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Future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Look what I could do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I rock in the futur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I rock now too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800400" y="8618400"/>
            <a:ext cx="11355480" cy="15668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2" descr="invaex2"/>
          <p:cNvPicPr/>
          <p:nvPr/>
        </p:nvPicPr>
        <p:blipFill>
          <a:blip r:embed="rId3"/>
          <a:stretch/>
        </p:blipFill>
        <p:spPr>
          <a:xfrm>
            <a:off x="27704880" y="17595720"/>
            <a:ext cx="4538880" cy="4970520"/>
          </a:xfrm>
          <a:prstGeom prst="rect">
            <a:avLst/>
          </a:prstGeom>
          <a:ln w="0">
            <a:noFill/>
          </a:ln>
        </p:spPr>
      </p:pic>
      <p:sp>
        <p:nvSpPr>
          <p:cNvPr id="70" name="Line 24"/>
          <p:cNvSpPr/>
          <p:nvPr/>
        </p:nvSpPr>
        <p:spPr>
          <a:xfrm>
            <a:off x="16075080" y="18662760"/>
            <a:ext cx="373392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 rot="1098600">
            <a:off x="25568280" y="18205200"/>
            <a:ext cx="3687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Mob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1" descr="oxygentank"/>
          <p:cNvPicPr/>
          <p:nvPr/>
        </p:nvPicPr>
        <p:blipFill>
          <a:blip r:embed="rId4"/>
          <a:srcRect l="25018" t="0" r="20014" b="0"/>
          <a:stretch/>
        </p:blipFill>
        <p:spPr>
          <a:xfrm>
            <a:off x="14274720" y="16484760"/>
            <a:ext cx="2462400" cy="3684600"/>
          </a:xfrm>
          <a:prstGeom prst="rect">
            <a:avLst/>
          </a:prstGeom>
          <a:ln w="0">
            <a:noFill/>
          </a:ln>
        </p:spPr>
      </p:pic>
      <p:sp>
        <p:nvSpPr>
          <p:cNvPr id="73" name="Line 33"/>
          <p:cNvSpPr/>
          <p:nvPr/>
        </p:nvSpPr>
        <p:spPr>
          <a:xfrm flipV="1">
            <a:off x="15468480" y="22167720"/>
            <a:ext cx="5635800" cy="92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4"/>
          <p:cNvSpPr/>
          <p:nvPr/>
        </p:nvSpPr>
        <p:spPr>
          <a:xfrm>
            <a:off x="14843160" y="18649800"/>
            <a:ext cx="5460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Access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6" descr="vital-signs-300-large3"/>
          <p:cNvPicPr/>
          <p:nvPr/>
        </p:nvPicPr>
        <p:blipFill>
          <a:blip r:embed="rId5"/>
          <a:stretch/>
        </p:blipFill>
        <p:spPr>
          <a:xfrm>
            <a:off x="14130360" y="11328480"/>
            <a:ext cx="2743200" cy="5130720"/>
          </a:xfrm>
          <a:prstGeom prst="rect">
            <a:avLst/>
          </a:prstGeom>
          <a:ln w="0">
            <a:noFill/>
          </a:ln>
        </p:spPr>
      </p:pic>
      <p:sp>
        <p:nvSpPr>
          <p:cNvPr id="76" name="Line 38"/>
          <p:cNvSpPr/>
          <p:nvPr/>
        </p:nvSpPr>
        <p:spPr>
          <a:xfrm flipV="1">
            <a:off x="26262000" y="8585280"/>
            <a:ext cx="2017800" cy="68904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9"/>
          <p:cNvSpPr/>
          <p:nvPr/>
        </p:nvSpPr>
        <p:spPr>
          <a:xfrm>
            <a:off x="15768720" y="14390640"/>
            <a:ext cx="3686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Vi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0" descr="ivstand"/>
          <p:cNvPicPr/>
          <p:nvPr/>
        </p:nvPicPr>
        <p:blipFill>
          <a:blip r:embed="rId6"/>
          <a:stretch/>
        </p:blipFill>
        <p:spPr>
          <a:xfrm>
            <a:off x="27901800" y="6927840"/>
            <a:ext cx="2212920" cy="5383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3"/>
          <p:cNvSpPr/>
          <p:nvPr/>
        </p:nvSpPr>
        <p:spPr>
          <a:xfrm rot="20649600">
            <a:off x="25285680" y="8040240"/>
            <a:ext cx="3687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Por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4" descr="CDR0000526546"/>
          <p:cNvPicPr/>
          <p:nvPr/>
        </p:nvPicPr>
        <p:blipFill>
          <a:blip r:embed="rId7"/>
          <a:srcRect l="0" t="6900" r="31334" b="12523"/>
          <a:stretch/>
        </p:blipFill>
        <p:spPr>
          <a:xfrm>
            <a:off x="28689480" y="13554000"/>
            <a:ext cx="2143080" cy="1959120"/>
          </a:xfrm>
          <a:prstGeom prst="rect">
            <a:avLst/>
          </a:prstGeom>
          <a:ln w="0">
            <a:noFill/>
          </a:ln>
        </p:spPr>
      </p:pic>
      <p:sp>
        <p:nvSpPr>
          <p:cNvPr id="81" name="Line 46"/>
          <p:cNvSpPr/>
          <p:nvPr/>
        </p:nvSpPr>
        <p:spPr>
          <a:xfrm>
            <a:off x="16619400" y="14312880"/>
            <a:ext cx="2268720" cy="745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7"/>
          <p:cNvSpPr/>
          <p:nvPr/>
        </p:nvSpPr>
        <p:spPr>
          <a:xfrm rot="21347400">
            <a:off x="25498440" y="14174280"/>
            <a:ext cx="3687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Han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8" descr="3747"/>
          <p:cNvPicPr/>
          <p:nvPr/>
        </p:nvPicPr>
        <p:blipFill>
          <a:blip r:embed="rId8"/>
          <a:stretch/>
        </p:blipFill>
        <p:spPr>
          <a:xfrm>
            <a:off x="12115800" y="20193120"/>
            <a:ext cx="3886200" cy="3585960"/>
          </a:xfrm>
          <a:prstGeom prst="rect">
            <a:avLst/>
          </a:prstGeom>
          <a:ln w="0">
            <a:noFill/>
          </a:ln>
        </p:spPr>
      </p:pic>
      <p:sp>
        <p:nvSpPr>
          <p:cNvPr id="84" name="Line 50"/>
          <p:cNvSpPr/>
          <p:nvPr/>
        </p:nvSpPr>
        <p:spPr>
          <a:xfrm>
            <a:off x="26073000" y="18454680"/>
            <a:ext cx="2395800" cy="82872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1"/>
          <p:cNvSpPr/>
          <p:nvPr/>
        </p:nvSpPr>
        <p:spPr>
          <a:xfrm rot="20956800">
            <a:off x="14847480" y="22190040"/>
            <a:ext cx="3687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Practi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2" descr="FAM_CLOROX_DISINFECTING_WIPE-2719"/>
          <p:cNvPicPr/>
          <p:nvPr/>
        </p:nvPicPr>
        <p:blipFill>
          <a:blip r:embed="rId9"/>
          <a:srcRect l="10709" t="5394" r="13504" b="0"/>
          <a:stretch/>
        </p:blipFill>
        <p:spPr>
          <a:xfrm rot="646800">
            <a:off x="14612400" y="7536960"/>
            <a:ext cx="1767240" cy="2416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5"/>
          <p:cNvSpPr/>
          <p:nvPr/>
        </p:nvSpPr>
        <p:spPr>
          <a:xfrm rot="615600">
            <a:off x="15388920" y="8528040"/>
            <a:ext cx="3686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Sanit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8"/>
          <p:cNvSpPr/>
          <p:nvPr/>
        </p:nvSpPr>
        <p:spPr>
          <a:xfrm flipV="1">
            <a:off x="26262000" y="8585280"/>
            <a:ext cx="2017800" cy="68904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2"/>
          <p:cNvSpPr/>
          <p:nvPr/>
        </p:nvSpPr>
        <p:spPr>
          <a:xfrm flipV="1">
            <a:off x="26073000" y="14934960"/>
            <a:ext cx="2395800" cy="20628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6"/>
          <p:cNvSpPr/>
          <p:nvPr/>
        </p:nvSpPr>
        <p:spPr>
          <a:xfrm>
            <a:off x="16619400" y="14312880"/>
            <a:ext cx="2268720" cy="74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0"/>
          <p:cNvSpPr/>
          <p:nvPr/>
        </p:nvSpPr>
        <p:spPr>
          <a:xfrm>
            <a:off x="26073000" y="18454680"/>
            <a:ext cx="2395800" cy="82872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4"/>
          <p:cNvSpPr/>
          <p:nvPr/>
        </p:nvSpPr>
        <p:spPr>
          <a:xfrm flipH="1" flipV="1">
            <a:off x="16192440" y="9166320"/>
            <a:ext cx="2457360" cy="48240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6120" y="6172200"/>
            <a:ext cx="1082016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43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7100" spc="-1" strike="noStrike">
                <a:solidFill>
                  <a:srgbClr val="333399"/>
                </a:solidFill>
                <a:latin typeface="Arial"/>
              </a:rPr>
              <a:t>Triage Flow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4389480"/>
                <a:tab algn="l" pos="8778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duces Triage Spac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4389480"/>
                <a:tab algn="l" pos="8778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ock in the fu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4389480"/>
                <a:tab algn="l" pos="8778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rock now to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0" y="0"/>
            <a:ext cx="12001680" cy="5423040"/>
          </a:xfrm>
          <a:custGeom>
            <a:avLst/>
            <a:gdLst/>
            <a:ahLst/>
            <a:rect l="l" t="t" r="r" b="b"/>
            <a:pathLst>
              <a:path w="7560" h="3416">
                <a:moveTo>
                  <a:pt x="344" y="669"/>
                </a:moveTo>
                <a:cubicBezTo>
                  <a:pt x="544" y="702"/>
                  <a:pt x="415" y="670"/>
                  <a:pt x="528" y="686"/>
                </a:cubicBezTo>
                <a:cubicBezTo>
                  <a:pt x="568" y="691"/>
                  <a:pt x="768" y="752"/>
                  <a:pt x="808" y="760"/>
                </a:cubicBezTo>
                <a:cubicBezTo>
                  <a:pt x="874" y="806"/>
                  <a:pt x="981" y="965"/>
                  <a:pt x="1064" y="975"/>
                </a:cubicBezTo>
                <a:cubicBezTo>
                  <a:pt x="1079" y="990"/>
                  <a:pt x="1281" y="1248"/>
                  <a:pt x="1296" y="1264"/>
                </a:cubicBezTo>
                <a:cubicBezTo>
                  <a:pt x="1305" y="1273"/>
                  <a:pt x="1503" y="1461"/>
                  <a:pt x="1512" y="1470"/>
                </a:cubicBezTo>
                <a:cubicBezTo>
                  <a:pt x="1514" y="1472"/>
                  <a:pt x="1884" y="1862"/>
                  <a:pt x="2000" y="1990"/>
                </a:cubicBezTo>
                <a:lnTo>
                  <a:pt x="2208" y="2238"/>
                </a:lnTo>
                <a:lnTo>
                  <a:pt x="2552" y="2626"/>
                </a:lnTo>
                <a:lnTo>
                  <a:pt x="2792" y="2890"/>
                </a:lnTo>
                <a:lnTo>
                  <a:pt x="2960" y="3055"/>
                </a:lnTo>
                <a:lnTo>
                  <a:pt x="3080" y="3162"/>
                </a:lnTo>
                <a:lnTo>
                  <a:pt x="3248" y="3245"/>
                </a:lnTo>
                <a:lnTo>
                  <a:pt x="3432" y="3311"/>
                </a:lnTo>
                <a:lnTo>
                  <a:pt x="3728" y="3344"/>
                </a:lnTo>
                <a:lnTo>
                  <a:pt x="4040" y="3336"/>
                </a:lnTo>
                <a:lnTo>
                  <a:pt x="4360" y="3400"/>
                </a:lnTo>
                <a:lnTo>
                  <a:pt x="7560" y="3416"/>
                </a:lnTo>
                <a:lnTo>
                  <a:pt x="7512" y="0"/>
                </a:lnTo>
                <a:lnTo>
                  <a:pt x="0" y="9"/>
                </a:lnTo>
                <a:lnTo>
                  <a:pt x="0" y="653"/>
                </a:lnTo>
                <a:lnTo>
                  <a:pt x="344" y="66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3870960" y="1000080"/>
            <a:ext cx="10182240" cy="4303800"/>
            <a:chOff x="33870960" y="1000080"/>
            <a:chExt cx="10182240" cy="4303800"/>
          </a:xfrm>
        </p:grpSpPr>
        <p:sp>
          <p:nvSpPr>
            <p:cNvPr id="96" name=""/>
            <p:cNvSpPr/>
            <p:nvPr/>
          </p:nvSpPr>
          <p:spPr>
            <a:xfrm>
              <a:off x="35825400" y="1400040"/>
              <a:ext cx="3076560" cy="3348000"/>
            </a:xfrm>
            <a:prstGeom prst="line">
              <a:avLst/>
            </a:prstGeom>
            <a:ln w="139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889000" y="4737240"/>
              <a:ext cx="5164200" cy="566640"/>
            </a:xfrm>
            <a:custGeom>
              <a:avLst/>
              <a:gdLst/>
              <a:ahLst/>
              <a:rect l="l" t="t" r="r" b="b"/>
              <a:pathLst>
                <a:path w="3253" h="357">
                  <a:moveTo>
                    <a:pt x="0" y="0"/>
                  </a:moveTo>
                  <a:cubicBezTo>
                    <a:pt x="40" y="38"/>
                    <a:pt x="133" y="159"/>
                    <a:pt x="244" y="215"/>
                  </a:cubicBezTo>
                  <a:cubicBezTo>
                    <a:pt x="354" y="270"/>
                    <a:pt x="485" y="315"/>
                    <a:pt x="669" y="336"/>
                  </a:cubicBezTo>
                  <a:cubicBezTo>
                    <a:pt x="853" y="357"/>
                    <a:pt x="915" y="344"/>
                    <a:pt x="1346" y="343"/>
                  </a:cubicBezTo>
                  <a:cubicBezTo>
                    <a:pt x="1777" y="342"/>
                    <a:pt x="2935" y="335"/>
                    <a:pt x="3253" y="333"/>
                  </a:cubicBezTo>
                </a:path>
              </a:pathLst>
            </a:custGeom>
            <a:noFill/>
            <a:ln w="1396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870960" y="1000080"/>
              <a:ext cx="2009880" cy="455760"/>
            </a:xfrm>
            <a:custGeom>
              <a:avLst/>
              <a:gdLst/>
              <a:ahLst/>
              <a:rect l="l" t="t" r="r" b="b"/>
              <a:pathLst>
                <a:path w="1266" h="278">
                  <a:moveTo>
                    <a:pt x="1266" y="278"/>
                  </a:moveTo>
                  <a:cubicBezTo>
                    <a:pt x="1160" y="180"/>
                    <a:pt x="1052" y="86"/>
                    <a:pt x="841" y="43"/>
                  </a:cubicBezTo>
                  <a:cubicBezTo>
                    <a:pt x="630" y="0"/>
                    <a:pt x="175" y="25"/>
                    <a:pt x="0" y="20"/>
                  </a:cubicBezTo>
                </a:path>
              </a:pathLst>
            </a:custGeom>
            <a:noFill/>
            <a:ln w="1396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22783680" y="26446320"/>
            <a:ext cx="7400880" cy="612756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31775400" y="10210680"/>
            <a:ext cx="11810880" cy="6229440"/>
            <a:chOff x="31775400" y="10210680"/>
            <a:chExt cx="11810880" cy="6229440"/>
          </a:xfrm>
        </p:grpSpPr>
        <p:sp>
          <p:nvSpPr>
            <p:cNvPr id="101" name=""/>
            <p:cNvSpPr/>
            <p:nvPr/>
          </p:nvSpPr>
          <p:spPr>
            <a:xfrm>
              <a:off x="31775400" y="10210680"/>
              <a:ext cx="61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Befo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1"/>
            <a:stretch/>
          </p:blipFill>
          <p:spPr>
            <a:xfrm>
              <a:off x="32486760" y="10934640"/>
              <a:ext cx="495936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3616800" y="12325320"/>
              <a:ext cx="4413240" cy="3562560"/>
            </a:xfrm>
            <a:custGeom>
              <a:avLst/>
              <a:gdLst/>
              <a:ahLst/>
              <a:rect l="l" t="t" r="r" b="b"/>
              <a:pathLst>
                <a:path w="2780" h="2244">
                  <a:moveTo>
                    <a:pt x="2360" y="2244"/>
                  </a:moveTo>
                  <a:cubicBezTo>
                    <a:pt x="2360" y="2056"/>
                    <a:pt x="2360" y="1868"/>
                    <a:pt x="2264" y="1716"/>
                  </a:cubicBezTo>
                  <a:cubicBezTo>
                    <a:pt x="2168" y="1564"/>
                    <a:pt x="1968" y="1412"/>
                    <a:pt x="1784" y="1332"/>
                  </a:cubicBezTo>
                  <a:cubicBezTo>
                    <a:pt x="1600" y="1252"/>
                    <a:pt x="1288" y="1164"/>
                    <a:pt x="1160" y="1236"/>
                  </a:cubicBezTo>
                  <a:cubicBezTo>
                    <a:pt x="1032" y="1308"/>
                    <a:pt x="1000" y="1764"/>
                    <a:pt x="1016" y="1764"/>
                  </a:cubicBezTo>
                  <a:cubicBezTo>
                    <a:pt x="1032" y="1764"/>
                    <a:pt x="1160" y="1444"/>
                    <a:pt x="1256" y="1236"/>
                  </a:cubicBezTo>
                  <a:cubicBezTo>
                    <a:pt x="1352" y="1028"/>
                    <a:pt x="1552" y="708"/>
                    <a:pt x="1592" y="516"/>
                  </a:cubicBezTo>
                  <a:cubicBezTo>
                    <a:pt x="1632" y="324"/>
                    <a:pt x="1512" y="116"/>
                    <a:pt x="1496" y="84"/>
                  </a:cubicBezTo>
                  <a:cubicBezTo>
                    <a:pt x="1480" y="52"/>
                    <a:pt x="1504" y="164"/>
                    <a:pt x="1496" y="324"/>
                  </a:cubicBezTo>
                  <a:cubicBezTo>
                    <a:pt x="1488" y="484"/>
                    <a:pt x="1520" y="812"/>
                    <a:pt x="1448" y="1044"/>
                  </a:cubicBezTo>
                  <a:cubicBezTo>
                    <a:pt x="1376" y="1276"/>
                    <a:pt x="1136" y="1708"/>
                    <a:pt x="1064" y="1716"/>
                  </a:cubicBezTo>
                  <a:cubicBezTo>
                    <a:pt x="992" y="1724"/>
                    <a:pt x="1096" y="1244"/>
                    <a:pt x="1016" y="1092"/>
                  </a:cubicBezTo>
                  <a:cubicBezTo>
                    <a:pt x="936" y="940"/>
                    <a:pt x="696" y="932"/>
                    <a:pt x="584" y="804"/>
                  </a:cubicBezTo>
                  <a:cubicBezTo>
                    <a:pt x="472" y="676"/>
                    <a:pt x="440" y="380"/>
                    <a:pt x="344" y="324"/>
                  </a:cubicBezTo>
                  <a:cubicBezTo>
                    <a:pt x="248" y="268"/>
                    <a:pt x="16" y="468"/>
                    <a:pt x="8" y="468"/>
                  </a:cubicBezTo>
                  <a:cubicBezTo>
                    <a:pt x="0" y="468"/>
                    <a:pt x="136" y="324"/>
                    <a:pt x="296" y="324"/>
                  </a:cubicBezTo>
                  <a:cubicBezTo>
                    <a:pt x="456" y="324"/>
                    <a:pt x="952" y="460"/>
                    <a:pt x="968" y="468"/>
                  </a:cubicBezTo>
                  <a:cubicBezTo>
                    <a:pt x="984" y="476"/>
                    <a:pt x="544" y="316"/>
                    <a:pt x="392" y="372"/>
                  </a:cubicBezTo>
                  <a:cubicBezTo>
                    <a:pt x="240" y="428"/>
                    <a:pt x="64" y="812"/>
                    <a:pt x="56" y="804"/>
                  </a:cubicBezTo>
                  <a:cubicBezTo>
                    <a:pt x="48" y="796"/>
                    <a:pt x="296" y="332"/>
                    <a:pt x="344" y="324"/>
                  </a:cubicBezTo>
                  <a:cubicBezTo>
                    <a:pt x="392" y="316"/>
                    <a:pt x="296" y="636"/>
                    <a:pt x="344" y="756"/>
                  </a:cubicBezTo>
                  <a:cubicBezTo>
                    <a:pt x="392" y="876"/>
                    <a:pt x="528" y="940"/>
                    <a:pt x="632" y="1044"/>
                  </a:cubicBezTo>
                  <a:cubicBezTo>
                    <a:pt x="736" y="1148"/>
                    <a:pt x="904" y="1260"/>
                    <a:pt x="968" y="1380"/>
                  </a:cubicBezTo>
                  <a:cubicBezTo>
                    <a:pt x="1032" y="1500"/>
                    <a:pt x="952" y="1804"/>
                    <a:pt x="1016" y="1764"/>
                  </a:cubicBezTo>
                  <a:cubicBezTo>
                    <a:pt x="1080" y="1724"/>
                    <a:pt x="1224" y="1252"/>
                    <a:pt x="1352" y="1140"/>
                  </a:cubicBezTo>
                  <a:cubicBezTo>
                    <a:pt x="1480" y="1028"/>
                    <a:pt x="1584" y="1076"/>
                    <a:pt x="1784" y="1092"/>
                  </a:cubicBezTo>
                  <a:cubicBezTo>
                    <a:pt x="1984" y="1108"/>
                    <a:pt x="2386" y="1418"/>
                    <a:pt x="2552" y="1236"/>
                  </a:cubicBezTo>
                  <a:cubicBezTo>
                    <a:pt x="2718" y="1054"/>
                    <a:pt x="2733" y="257"/>
                    <a:pt x="2780" y="0"/>
                  </a:cubicBezTo>
                </a:path>
              </a:pathLst>
            </a:cu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527880" y="12420720"/>
              <a:ext cx="4191120" cy="3593880"/>
            </a:xfrm>
            <a:custGeom>
              <a:avLst/>
              <a:gdLst/>
              <a:ahLst/>
              <a:rect l="l" t="t" r="r" b="b"/>
              <a:pathLst>
                <a:path w="2640" h="2264">
                  <a:moveTo>
                    <a:pt x="400" y="1608"/>
                  </a:moveTo>
                  <a:cubicBezTo>
                    <a:pt x="512" y="1548"/>
                    <a:pt x="624" y="1488"/>
                    <a:pt x="832" y="1416"/>
                  </a:cubicBezTo>
                  <a:cubicBezTo>
                    <a:pt x="1040" y="1344"/>
                    <a:pt x="1392" y="1160"/>
                    <a:pt x="1648" y="1176"/>
                  </a:cubicBezTo>
                  <a:cubicBezTo>
                    <a:pt x="1904" y="1192"/>
                    <a:pt x="2232" y="1384"/>
                    <a:pt x="2368" y="1512"/>
                  </a:cubicBezTo>
                  <a:cubicBezTo>
                    <a:pt x="2504" y="1640"/>
                    <a:pt x="2448" y="1824"/>
                    <a:pt x="2464" y="1944"/>
                  </a:cubicBezTo>
                  <a:cubicBezTo>
                    <a:pt x="2480" y="2064"/>
                    <a:pt x="2456" y="2264"/>
                    <a:pt x="2464" y="2232"/>
                  </a:cubicBezTo>
                  <a:cubicBezTo>
                    <a:pt x="2472" y="2200"/>
                    <a:pt x="2536" y="1888"/>
                    <a:pt x="2512" y="1752"/>
                  </a:cubicBezTo>
                  <a:cubicBezTo>
                    <a:pt x="2488" y="1616"/>
                    <a:pt x="2456" y="1512"/>
                    <a:pt x="2320" y="1416"/>
                  </a:cubicBezTo>
                  <a:cubicBezTo>
                    <a:pt x="2184" y="1320"/>
                    <a:pt x="1904" y="1192"/>
                    <a:pt x="1696" y="1176"/>
                  </a:cubicBezTo>
                  <a:cubicBezTo>
                    <a:pt x="1488" y="1160"/>
                    <a:pt x="1280" y="1232"/>
                    <a:pt x="1072" y="1320"/>
                  </a:cubicBezTo>
                  <a:cubicBezTo>
                    <a:pt x="864" y="1408"/>
                    <a:pt x="504" y="1664"/>
                    <a:pt x="448" y="1704"/>
                  </a:cubicBezTo>
                  <a:cubicBezTo>
                    <a:pt x="392" y="1744"/>
                    <a:pt x="648" y="1584"/>
                    <a:pt x="736" y="1560"/>
                  </a:cubicBezTo>
                  <a:cubicBezTo>
                    <a:pt x="824" y="1536"/>
                    <a:pt x="920" y="1528"/>
                    <a:pt x="976" y="1560"/>
                  </a:cubicBezTo>
                  <a:cubicBezTo>
                    <a:pt x="1032" y="1592"/>
                    <a:pt x="1040" y="1768"/>
                    <a:pt x="1072" y="1752"/>
                  </a:cubicBezTo>
                  <a:cubicBezTo>
                    <a:pt x="1104" y="1736"/>
                    <a:pt x="1136" y="1512"/>
                    <a:pt x="1168" y="1464"/>
                  </a:cubicBezTo>
                  <a:cubicBezTo>
                    <a:pt x="1200" y="1416"/>
                    <a:pt x="1200" y="1456"/>
                    <a:pt x="1264" y="1464"/>
                  </a:cubicBezTo>
                  <a:cubicBezTo>
                    <a:pt x="1328" y="1472"/>
                    <a:pt x="1544" y="1520"/>
                    <a:pt x="1552" y="1512"/>
                  </a:cubicBezTo>
                  <a:cubicBezTo>
                    <a:pt x="1560" y="1504"/>
                    <a:pt x="1400" y="1424"/>
                    <a:pt x="1312" y="1416"/>
                  </a:cubicBezTo>
                  <a:cubicBezTo>
                    <a:pt x="1224" y="1408"/>
                    <a:pt x="1200" y="1408"/>
                    <a:pt x="1024" y="1464"/>
                  </a:cubicBezTo>
                  <a:cubicBezTo>
                    <a:pt x="848" y="1520"/>
                    <a:pt x="416" y="1664"/>
                    <a:pt x="256" y="1752"/>
                  </a:cubicBezTo>
                  <a:cubicBezTo>
                    <a:pt x="96" y="1840"/>
                    <a:pt x="64" y="1976"/>
                    <a:pt x="64" y="1992"/>
                  </a:cubicBezTo>
                  <a:cubicBezTo>
                    <a:pt x="64" y="2008"/>
                    <a:pt x="128" y="1920"/>
                    <a:pt x="256" y="1848"/>
                  </a:cubicBezTo>
                  <a:cubicBezTo>
                    <a:pt x="384" y="1776"/>
                    <a:pt x="656" y="1656"/>
                    <a:pt x="832" y="1560"/>
                  </a:cubicBezTo>
                  <a:cubicBezTo>
                    <a:pt x="1008" y="1464"/>
                    <a:pt x="1168" y="1464"/>
                    <a:pt x="1312" y="1272"/>
                  </a:cubicBezTo>
                  <a:cubicBezTo>
                    <a:pt x="1456" y="1080"/>
                    <a:pt x="1648" y="616"/>
                    <a:pt x="1696" y="408"/>
                  </a:cubicBezTo>
                  <a:cubicBezTo>
                    <a:pt x="1744" y="200"/>
                    <a:pt x="1608" y="48"/>
                    <a:pt x="1600" y="24"/>
                  </a:cubicBezTo>
                  <a:cubicBezTo>
                    <a:pt x="1592" y="0"/>
                    <a:pt x="1656" y="128"/>
                    <a:pt x="1648" y="264"/>
                  </a:cubicBezTo>
                  <a:cubicBezTo>
                    <a:pt x="1640" y="400"/>
                    <a:pt x="1664" y="640"/>
                    <a:pt x="1552" y="840"/>
                  </a:cubicBezTo>
                  <a:cubicBezTo>
                    <a:pt x="1440" y="1040"/>
                    <a:pt x="1208" y="1320"/>
                    <a:pt x="976" y="1464"/>
                  </a:cubicBezTo>
                  <a:cubicBezTo>
                    <a:pt x="744" y="1608"/>
                    <a:pt x="312" y="1632"/>
                    <a:pt x="160" y="1704"/>
                  </a:cubicBezTo>
                  <a:cubicBezTo>
                    <a:pt x="8" y="1776"/>
                    <a:pt x="0" y="1896"/>
                    <a:pt x="64" y="1896"/>
                  </a:cubicBezTo>
                  <a:cubicBezTo>
                    <a:pt x="128" y="1896"/>
                    <a:pt x="408" y="1736"/>
                    <a:pt x="544" y="1704"/>
                  </a:cubicBezTo>
                  <a:cubicBezTo>
                    <a:pt x="680" y="1672"/>
                    <a:pt x="800" y="1744"/>
                    <a:pt x="880" y="1704"/>
                  </a:cubicBezTo>
                  <a:cubicBezTo>
                    <a:pt x="960" y="1664"/>
                    <a:pt x="1080" y="1632"/>
                    <a:pt x="1024" y="1464"/>
                  </a:cubicBezTo>
                  <a:cubicBezTo>
                    <a:pt x="968" y="1296"/>
                    <a:pt x="664" y="896"/>
                    <a:pt x="544" y="696"/>
                  </a:cubicBezTo>
                  <a:cubicBezTo>
                    <a:pt x="424" y="496"/>
                    <a:pt x="392" y="312"/>
                    <a:pt x="304" y="264"/>
                  </a:cubicBezTo>
                  <a:cubicBezTo>
                    <a:pt x="216" y="216"/>
                    <a:pt x="8" y="408"/>
                    <a:pt x="16" y="408"/>
                  </a:cubicBezTo>
                  <a:cubicBezTo>
                    <a:pt x="24" y="408"/>
                    <a:pt x="344" y="208"/>
                    <a:pt x="352" y="264"/>
                  </a:cubicBezTo>
                  <a:cubicBezTo>
                    <a:pt x="360" y="320"/>
                    <a:pt x="56" y="744"/>
                    <a:pt x="64" y="744"/>
                  </a:cubicBezTo>
                  <a:cubicBezTo>
                    <a:pt x="72" y="744"/>
                    <a:pt x="240" y="328"/>
                    <a:pt x="400" y="264"/>
                  </a:cubicBezTo>
                  <a:cubicBezTo>
                    <a:pt x="560" y="200"/>
                    <a:pt x="992" y="352"/>
                    <a:pt x="1024" y="360"/>
                  </a:cubicBezTo>
                  <a:cubicBezTo>
                    <a:pt x="1056" y="368"/>
                    <a:pt x="704" y="328"/>
                    <a:pt x="592" y="312"/>
                  </a:cubicBezTo>
                  <a:cubicBezTo>
                    <a:pt x="480" y="296"/>
                    <a:pt x="376" y="224"/>
                    <a:pt x="352" y="264"/>
                  </a:cubicBezTo>
                  <a:cubicBezTo>
                    <a:pt x="328" y="304"/>
                    <a:pt x="392" y="456"/>
                    <a:pt x="448" y="552"/>
                  </a:cubicBezTo>
                  <a:cubicBezTo>
                    <a:pt x="504" y="648"/>
                    <a:pt x="616" y="688"/>
                    <a:pt x="688" y="840"/>
                  </a:cubicBezTo>
                  <a:cubicBezTo>
                    <a:pt x="760" y="992"/>
                    <a:pt x="968" y="1272"/>
                    <a:pt x="880" y="1464"/>
                  </a:cubicBezTo>
                  <a:cubicBezTo>
                    <a:pt x="792" y="1656"/>
                    <a:pt x="184" y="1976"/>
                    <a:pt x="160" y="1992"/>
                  </a:cubicBezTo>
                  <a:cubicBezTo>
                    <a:pt x="136" y="2008"/>
                    <a:pt x="464" y="1712"/>
                    <a:pt x="736" y="1560"/>
                  </a:cubicBezTo>
                  <a:cubicBezTo>
                    <a:pt x="1008" y="1408"/>
                    <a:pt x="1496" y="1080"/>
                    <a:pt x="1792" y="1080"/>
                  </a:cubicBezTo>
                  <a:cubicBezTo>
                    <a:pt x="2088" y="1080"/>
                    <a:pt x="2384" y="1392"/>
                    <a:pt x="2512" y="1560"/>
                  </a:cubicBezTo>
                  <a:cubicBezTo>
                    <a:pt x="2640" y="1728"/>
                    <a:pt x="2600" y="1908"/>
                    <a:pt x="2560" y="2088"/>
                  </a:cubicBezTo>
                </a:path>
              </a:pathLst>
            </a:cu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309320" y="10253520"/>
              <a:ext cx="618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Aft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2"/>
            <a:stretch/>
          </p:blipFill>
          <p:spPr>
            <a:xfrm>
              <a:off x="38025360" y="10958400"/>
              <a:ext cx="4872240" cy="54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9230280" y="14336640"/>
              <a:ext cx="4191120" cy="1206720"/>
            </a:xfrm>
            <a:custGeom>
              <a:avLst/>
              <a:gdLst/>
              <a:ahLst/>
              <a:rect l="l" t="t" r="r" b="b"/>
              <a:pathLst>
                <a:path w="2640" h="760">
                  <a:moveTo>
                    <a:pt x="536" y="320"/>
                  </a:moveTo>
                  <a:cubicBezTo>
                    <a:pt x="632" y="220"/>
                    <a:pt x="728" y="120"/>
                    <a:pt x="920" y="80"/>
                  </a:cubicBezTo>
                  <a:cubicBezTo>
                    <a:pt x="1112" y="40"/>
                    <a:pt x="1440" y="8"/>
                    <a:pt x="1688" y="80"/>
                  </a:cubicBezTo>
                  <a:cubicBezTo>
                    <a:pt x="1936" y="152"/>
                    <a:pt x="2264" y="400"/>
                    <a:pt x="2408" y="512"/>
                  </a:cubicBezTo>
                  <a:cubicBezTo>
                    <a:pt x="2552" y="624"/>
                    <a:pt x="2536" y="744"/>
                    <a:pt x="2552" y="752"/>
                  </a:cubicBezTo>
                  <a:cubicBezTo>
                    <a:pt x="2568" y="760"/>
                    <a:pt x="2640" y="672"/>
                    <a:pt x="2504" y="560"/>
                  </a:cubicBezTo>
                  <a:cubicBezTo>
                    <a:pt x="2368" y="448"/>
                    <a:pt x="1976" y="160"/>
                    <a:pt x="1736" y="80"/>
                  </a:cubicBezTo>
                  <a:cubicBezTo>
                    <a:pt x="1496" y="0"/>
                    <a:pt x="1232" y="64"/>
                    <a:pt x="1064" y="80"/>
                  </a:cubicBezTo>
                  <a:cubicBezTo>
                    <a:pt x="896" y="96"/>
                    <a:pt x="824" y="120"/>
                    <a:pt x="728" y="176"/>
                  </a:cubicBezTo>
                  <a:cubicBezTo>
                    <a:pt x="632" y="232"/>
                    <a:pt x="496" y="408"/>
                    <a:pt x="488" y="416"/>
                  </a:cubicBezTo>
                  <a:cubicBezTo>
                    <a:pt x="480" y="424"/>
                    <a:pt x="616" y="232"/>
                    <a:pt x="680" y="224"/>
                  </a:cubicBezTo>
                  <a:cubicBezTo>
                    <a:pt x="744" y="216"/>
                    <a:pt x="832" y="360"/>
                    <a:pt x="872" y="368"/>
                  </a:cubicBezTo>
                  <a:cubicBezTo>
                    <a:pt x="912" y="376"/>
                    <a:pt x="856" y="296"/>
                    <a:pt x="920" y="272"/>
                  </a:cubicBezTo>
                  <a:cubicBezTo>
                    <a:pt x="984" y="248"/>
                    <a:pt x="1176" y="216"/>
                    <a:pt x="1256" y="224"/>
                  </a:cubicBezTo>
                  <a:cubicBezTo>
                    <a:pt x="1336" y="232"/>
                    <a:pt x="1392" y="320"/>
                    <a:pt x="1400" y="320"/>
                  </a:cubicBezTo>
                  <a:cubicBezTo>
                    <a:pt x="1408" y="320"/>
                    <a:pt x="1392" y="224"/>
                    <a:pt x="1304" y="224"/>
                  </a:cubicBezTo>
                  <a:cubicBezTo>
                    <a:pt x="1216" y="224"/>
                    <a:pt x="976" y="328"/>
                    <a:pt x="872" y="320"/>
                  </a:cubicBezTo>
                  <a:cubicBezTo>
                    <a:pt x="768" y="312"/>
                    <a:pt x="816" y="112"/>
                    <a:pt x="680" y="176"/>
                  </a:cubicBezTo>
                  <a:cubicBezTo>
                    <a:pt x="544" y="240"/>
                    <a:pt x="112" y="656"/>
                    <a:pt x="56" y="704"/>
                  </a:cubicBezTo>
                  <a:cubicBezTo>
                    <a:pt x="0" y="752"/>
                    <a:pt x="208" y="568"/>
                    <a:pt x="344" y="464"/>
                  </a:cubicBezTo>
                  <a:cubicBezTo>
                    <a:pt x="480" y="360"/>
                    <a:pt x="664" y="144"/>
                    <a:pt x="872" y="80"/>
                  </a:cubicBezTo>
                  <a:cubicBezTo>
                    <a:pt x="1080" y="16"/>
                    <a:pt x="1352" y="24"/>
                    <a:pt x="1592" y="80"/>
                  </a:cubicBezTo>
                  <a:cubicBezTo>
                    <a:pt x="1832" y="136"/>
                    <a:pt x="2152" y="320"/>
                    <a:pt x="2312" y="416"/>
                  </a:cubicBezTo>
                  <a:cubicBezTo>
                    <a:pt x="2472" y="512"/>
                    <a:pt x="2512" y="584"/>
                    <a:pt x="2552" y="656"/>
                  </a:cubicBezTo>
                </a:path>
              </a:pathLst>
            </a:cu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716360" y="12406320"/>
              <a:ext cx="2869920" cy="3886200"/>
            </a:xfrm>
            <a:custGeom>
              <a:avLst/>
              <a:gdLst/>
              <a:ahLst/>
              <a:rect l="l" t="t" r="r" b="b"/>
              <a:pathLst>
                <a:path w="1808" h="2448">
                  <a:moveTo>
                    <a:pt x="1376" y="2448"/>
                  </a:moveTo>
                  <a:cubicBezTo>
                    <a:pt x="1396" y="2236"/>
                    <a:pt x="1416" y="2024"/>
                    <a:pt x="1376" y="1872"/>
                  </a:cubicBezTo>
                  <a:cubicBezTo>
                    <a:pt x="1336" y="1720"/>
                    <a:pt x="1288" y="1640"/>
                    <a:pt x="1136" y="1536"/>
                  </a:cubicBezTo>
                  <a:cubicBezTo>
                    <a:pt x="984" y="1432"/>
                    <a:pt x="648" y="1208"/>
                    <a:pt x="464" y="1248"/>
                  </a:cubicBezTo>
                  <a:cubicBezTo>
                    <a:pt x="280" y="1288"/>
                    <a:pt x="64" y="1760"/>
                    <a:pt x="32" y="1776"/>
                  </a:cubicBezTo>
                  <a:cubicBezTo>
                    <a:pt x="0" y="1792"/>
                    <a:pt x="144" y="1448"/>
                    <a:pt x="272" y="1344"/>
                  </a:cubicBezTo>
                  <a:cubicBezTo>
                    <a:pt x="400" y="1240"/>
                    <a:pt x="624" y="1168"/>
                    <a:pt x="800" y="1152"/>
                  </a:cubicBezTo>
                  <a:cubicBezTo>
                    <a:pt x="976" y="1136"/>
                    <a:pt x="1176" y="1304"/>
                    <a:pt x="1328" y="1248"/>
                  </a:cubicBezTo>
                  <a:cubicBezTo>
                    <a:pt x="1480" y="1192"/>
                    <a:pt x="1632" y="1024"/>
                    <a:pt x="1712" y="816"/>
                  </a:cubicBezTo>
                  <a:cubicBezTo>
                    <a:pt x="1792" y="608"/>
                    <a:pt x="1800" y="304"/>
                    <a:pt x="1808" y="0"/>
                  </a:cubicBezTo>
                </a:path>
              </a:pathLst>
            </a:cu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252520" y="11187000"/>
              <a:ext cx="4419360" cy="259092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1118800">
              <a:off x="38862000" y="12025080"/>
              <a:ext cx="2971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4389480"/>
                  <a:tab algn="l" pos="877896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</a:rPr>
                <a:t>Reduced Spac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756480" y="12344400"/>
              <a:ext cx="4114800" cy="3505320"/>
            </a:xfrm>
            <a:custGeom>
              <a:avLst/>
              <a:gdLst/>
              <a:ahLst/>
              <a:rect l="l" t="t" r="r" b="b"/>
              <a:pathLst>
                <a:path w="2592" h="2208">
                  <a:moveTo>
                    <a:pt x="2352" y="2208"/>
                  </a:moveTo>
                  <a:cubicBezTo>
                    <a:pt x="2332" y="2056"/>
                    <a:pt x="2312" y="1904"/>
                    <a:pt x="2256" y="1776"/>
                  </a:cubicBezTo>
                  <a:cubicBezTo>
                    <a:pt x="2200" y="1648"/>
                    <a:pt x="2152" y="1544"/>
                    <a:pt x="2016" y="1440"/>
                  </a:cubicBezTo>
                  <a:cubicBezTo>
                    <a:pt x="1880" y="1336"/>
                    <a:pt x="1608" y="1144"/>
                    <a:pt x="1440" y="1152"/>
                  </a:cubicBezTo>
                  <a:cubicBezTo>
                    <a:pt x="1272" y="1160"/>
                    <a:pt x="1088" y="1384"/>
                    <a:pt x="1008" y="1488"/>
                  </a:cubicBezTo>
                  <a:cubicBezTo>
                    <a:pt x="928" y="1592"/>
                    <a:pt x="944" y="1776"/>
                    <a:pt x="960" y="1776"/>
                  </a:cubicBezTo>
                  <a:cubicBezTo>
                    <a:pt x="976" y="1776"/>
                    <a:pt x="1048" y="1528"/>
                    <a:pt x="1104" y="1488"/>
                  </a:cubicBezTo>
                  <a:cubicBezTo>
                    <a:pt x="1160" y="1448"/>
                    <a:pt x="1336" y="1560"/>
                    <a:pt x="1296" y="1536"/>
                  </a:cubicBezTo>
                  <a:cubicBezTo>
                    <a:pt x="1256" y="1512"/>
                    <a:pt x="976" y="1456"/>
                    <a:pt x="864" y="1344"/>
                  </a:cubicBezTo>
                  <a:cubicBezTo>
                    <a:pt x="752" y="1232"/>
                    <a:pt x="688" y="1008"/>
                    <a:pt x="624" y="864"/>
                  </a:cubicBezTo>
                  <a:cubicBezTo>
                    <a:pt x="560" y="720"/>
                    <a:pt x="552" y="584"/>
                    <a:pt x="480" y="480"/>
                  </a:cubicBezTo>
                  <a:cubicBezTo>
                    <a:pt x="408" y="376"/>
                    <a:pt x="264" y="200"/>
                    <a:pt x="192" y="240"/>
                  </a:cubicBezTo>
                  <a:cubicBezTo>
                    <a:pt x="120" y="280"/>
                    <a:pt x="48" y="688"/>
                    <a:pt x="48" y="720"/>
                  </a:cubicBezTo>
                  <a:cubicBezTo>
                    <a:pt x="48" y="752"/>
                    <a:pt x="200" y="488"/>
                    <a:pt x="192" y="432"/>
                  </a:cubicBezTo>
                  <a:cubicBezTo>
                    <a:pt x="184" y="376"/>
                    <a:pt x="0" y="408"/>
                    <a:pt x="0" y="384"/>
                  </a:cubicBezTo>
                  <a:cubicBezTo>
                    <a:pt x="0" y="360"/>
                    <a:pt x="48" y="288"/>
                    <a:pt x="192" y="288"/>
                  </a:cubicBezTo>
                  <a:cubicBezTo>
                    <a:pt x="336" y="288"/>
                    <a:pt x="840" y="376"/>
                    <a:pt x="864" y="384"/>
                  </a:cubicBezTo>
                  <a:cubicBezTo>
                    <a:pt x="888" y="392"/>
                    <a:pt x="400" y="320"/>
                    <a:pt x="336" y="336"/>
                  </a:cubicBezTo>
                  <a:cubicBezTo>
                    <a:pt x="272" y="352"/>
                    <a:pt x="416" y="416"/>
                    <a:pt x="480" y="480"/>
                  </a:cubicBezTo>
                  <a:cubicBezTo>
                    <a:pt x="544" y="544"/>
                    <a:pt x="648" y="584"/>
                    <a:pt x="720" y="720"/>
                  </a:cubicBezTo>
                  <a:cubicBezTo>
                    <a:pt x="792" y="856"/>
                    <a:pt x="856" y="1152"/>
                    <a:pt x="912" y="1296"/>
                  </a:cubicBezTo>
                  <a:cubicBezTo>
                    <a:pt x="968" y="1440"/>
                    <a:pt x="992" y="1616"/>
                    <a:pt x="1056" y="1584"/>
                  </a:cubicBezTo>
                  <a:cubicBezTo>
                    <a:pt x="1120" y="1552"/>
                    <a:pt x="1224" y="1272"/>
                    <a:pt x="1296" y="1104"/>
                  </a:cubicBezTo>
                  <a:cubicBezTo>
                    <a:pt x="1368" y="936"/>
                    <a:pt x="1472" y="752"/>
                    <a:pt x="1488" y="576"/>
                  </a:cubicBezTo>
                  <a:cubicBezTo>
                    <a:pt x="1504" y="400"/>
                    <a:pt x="1408" y="32"/>
                    <a:pt x="1392" y="48"/>
                  </a:cubicBezTo>
                  <a:cubicBezTo>
                    <a:pt x="1376" y="64"/>
                    <a:pt x="1440" y="464"/>
                    <a:pt x="1392" y="672"/>
                  </a:cubicBezTo>
                  <a:cubicBezTo>
                    <a:pt x="1344" y="880"/>
                    <a:pt x="1160" y="1160"/>
                    <a:pt x="1104" y="1296"/>
                  </a:cubicBezTo>
                  <a:cubicBezTo>
                    <a:pt x="1048" y="1432"/>
                    <a:pt x="1032" y="1512"/>
                    <a:pt x="1056" y="1488"/>
                  </a:cubicBezTo>
                  <a:cubicBezTo>
                    <a:pt x="1080" y="1464"/>
                    <a:pt x="1152" y="1216"/>
                    <a:pt x="1248" y="1152"/>
                  </a:cubicBezTo>
                  <a:cubicBezTo>
                    <a:pt x="1344" y="1088"/>
                    <a:pt x="1456" y="1072"/>
                    <a:pt x="1632" y="1104"/>
                  </a:cubicBezTo>
                  <a:cubicBezTo>
                    <a:pt x="1808" y="1136"/>
                    <a:pt x="2160" y="1352"/>
                    <a:pt x="2304" y="1344"/>
                  </a:cubicBezTo>
                  <a:cubicBezTo>
                    <a:pt x="2448" y="1336"/>
                    <a:pt x="2448" y="1280"/>
                    <a:pt x="2496" y="1056"/>
                  </a:cubicBezTo>
                  <a:cubicBezTo>
                    <a:pt x="2544" y="832"/>
                    <a:pt x="2568" y="416"/>
                    <a:pt x="2592" y="0"/>
                  </a:cubicBezTo>
                </a:path>
              </a:pathLst>
            </a:cu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3:53:45Z</dcterms:created>
  <dc:creator>Becky</dc:creator>
  <dc:description/>
  <dc:language>en-US</dc:language>
  <cp:lastModifiedBy>Thompson</cp:lastModifiedBy>
  <dcterms:modified xsi:type="dcterms:W3CDTF">2008-11-20T23:01:34Z</dcterms:modified>
  <cp:revision>7</cp:revision>
  <dc:subject/>
  <dc:title>Slide 1</dc:title>
</cp:coreProperties>
</file>